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4638-F103-4BEC-B285-8D8DA69E7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6C12-04EA-4134-9200-4C7120672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457D-1828-4CAB-AFBB-AC8A28420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0569-C5E5-4113-95DF-4C51D2B50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8258B-7240-4BB8-9B50-3FEED0709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85F1B-25D3-4D72-ACAB-A3A89533D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C1E0D-535A-4AA6-8F51-478171470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C5BF1-6345-4167-A95F-5491E3E11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9A1A4-39C8-49EC-866A-5F07AC334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765C0-D534-45CA-8091-24581A7CE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0EE40-8CBA-4495-B2C2-DAD2D1BE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257A-5D4E-4C58-903B-5373A2249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3FB60-A466-4132-B9EF-3B0A988B3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CD85F-8C12-402F-9C8D-5D60392D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6F5D8-4602-4434-A74F-5531D8FC7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97413-6578-4278-9BB9-F22646CAA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A0C12-23BE-40FB-AE9C-CF88BDDFA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025F-6E33-4F33-A88B-AB264BA1F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DDF1-8333-4D3B-B9E0-B3A30F7CD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D92C-7F42-469B-BE44-DA083158A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EEA2-AD7D-44F4-A251-F9185E37F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BDE4-3AB7-435F-83D8-1B30EBC8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7421-1288-49E3-87E0-E1BF3B55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E4C9-3D8A-4ACB-B6C8-279F0915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DB36C-45C8-4618-AC70-6C5A3F67E82A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78DC8-0A4D-4AD1-A321-01D9338AC50E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5564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A Política de Aristótel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ffffff"/>
                </a:solidFill>
                <a:latin typeface="Comic Sans MS"/>
              </a:rPr>
              <a:t>A degeneração das formas de governo ocorre paralelamente a estas categorias: na monarquia corrompida, o monarca vira-se para a sua utilidade e descura a geral, passando-se assim a uma tirania; na oligarquia, que é a corrupção da aristocracia, desvia-se o governo para a utilidade dos ricos; finalmente, a </a:t>
            </a:r>
            <a:r>
              <a:rPr b="0" i="1" lang="pt-PT" sz="2600" spc="-1" strike="noStrike">
                <a:solidFill>
                  <a:srgbClr val="ffffff"/>
                </a:solidFill>
                <a:latin typeface="Comic Sans MS"/>
              </a:rPr>
              <a:t>politeia</a:t>
            </a:r>
            <a:r>
              <a:rPr b="0" lang="pt-PT" sz="2600" spc="-1" strike="noStrike">
                <a:solidFill>
                  <a:srgbClr val="ffffff"/>
                </a:solidFill>
                <a:latin typeface="Comic Sans MS"/>
              </a:rPr>
              <a:t> pode corromper-se numa forma de governo somente preocupada com a utilidade dos pobres ou dos mais desfavorecidos</a:t>
            </a:r>
            <a:r>
              <a:rPr b="0" lang="pt-BR" sz="2600" spc="-1" strike="noStrike">
                <a:solidFill>
                  <a:srgbClr val="ffffff"/>
                </a:solidFill>
                <a:latin typeface="Comic Sans MS"/>
              </a:rPr>
              <a:t> 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ffffff"/>
                </a:solidFill>
                <a:latin typeface="Comic Sans MS"/>
              </a:rPr>
              <a:t>A essa forma de governo chama Aristóteles democracia… Mas sabemos que há que ter cuidado com as designações, e muito especialmente com as do governo por muitos, seja na forma pura, seja na corrupta – questão já analisada pelo próprio Estagirita</a:t>
            </a:r>
            <a:r>
              <a:rPr b="0" lang="pt-PT" sz="30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lang="pt-BR" sz="3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ffffff"/>
                </a:solidFill>
                <a:latin typeface="Comic Sans MS"/>
              </a:rPr>
              <a:t>Aristóteles especifica e desenvolve cada forma de governo, por exemplo elencando quatro (ou cinco) tipos-ideais de monarquia, ou comentando o problema de que, não sendo embora normal, pode haver mais ricos que pobres em casos muito excepcionais – o que coloca problemas de classificação.</a:t>
            </a:r>
            <a:r>
              <a:rPr b="0" lang="pt-PT" sz="3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ffffff"/>
                </a:solidFill>
                <a:latin typeface="Comic Sans MS"/>
              </a:rPr>
              <a:t>Também admite fórmulas um tanto mistas, que acabam por ter o nome de “República”. A “República” é assim uma forma louvada por Aristóteles que curiosamente associa elementos de duas formas degeneradas: a oligarquia e a democracia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9280" y="22762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ffffff"/>
                </a:solidFill>
                <a:latin typeface="Comic Sans MS"/>
              </a:rPr>
              <a:t>Esta forma de governo assenta socialmente na classe média, combinando dois princípios que de algum modo se equilibrariam: a riqueza, princípio oligárquico, e a liberdade, princípio democrático.</a:t>
            </a:r>
            <a:r>
              <a:rPr b="0" lang="pt-BR" sz="3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0920" y="20602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ffffff"/>
                </a:solidFill>
                <a:latin typeface="Comic Sans MS"/>
              </a:rPr>
              <a:t>E Aristóteles louvará a classe média, considerando, nomeadamente, com o apoio de várias autoridades e exemplos, que os melhores legisladores foram precisamente pessoas de medianas posses</a:t>
            </a:r>
            <a:r>
              <a:rPr b="0" lang="pt-PT" sz="3000" spc="-1" strike="noStrike">
                <a:solidFill>
                  <a:srgbClr val="ffffff"/>
                </a:solidFill>
                <a:latin typeface="Verdana"/>
              </a:rPr>
              <a:t>.</a:t>
            </a:r>
            <a:br>
              <a:rPr sz="3000"/>
            </a:br>
            <a:br>
              <a:rPr sz="3000"/>
            </a:br>
            <a:r>
              <a:rPr b="0" lang="pt-BR" sz="3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ffffff"/>
                </a:solidFill>
                <a:latin typeface="Comic Sans MS"/>
              </a:rPr>
              <a:t>Mas, evidentemente, a concepção de democracia de Aristóteles, mesmo quando não é usada com uma conotação negativa, tem diferenças relativamente à </a:t>
            </a:r>
            <a:r>
              <a:rPr b="0" i="1" lang="pt-PT" sz="3000" spc="-1" strike="noStrike">
                <a:solidFill>
                  <a:srgbClr val="ffffff"/>
                </a:solidFill>
                <a:latin typeface="Comic Sans MS"/>
              </a:rPr>
              <a:t>vox populi</a:t>
            </a:r>
            <a:r>
              <a:rPr b="0" lang="pt-PT" sz="3000" spc="-1" strike="noStrike">
                <a:solidFill>
                  <a:srgbClr val="ffffff"/>
                </a:solidFill>
                <a:latin typeface="Comic Sans MS"/>
              </a:rPr>
              <a:t> de hoje: por exemplo, para o Filósofo é próprio da democracia o sorteio dos magistrados, e da oligarquia a eleição. </a:t>
            </a:r>
            <a:br>
              <a:rPr sz="3000"/>
            </a:br>
            <a:br>
              <a:rPr sz="3000"/>
            </a:br>
            <a:r>
              <a:rPr b="0" lang="pt-BR" sz="3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ffffff"/>
                </a:solidFill>
                <a:latin typeface="Comic Sans MS"/>
              </a:rPr>
              <a:t>A tirania é sem hesitação qualificada como o pior dos governos. Seguida da oligarquia, que se distingue muito da aristocracia, de onde deriva, a qual comporta também várias modalidades</a:t>
            </a:r>
            <a:r>
              <a:rPr b="0" lang="pt-PT" sz="30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lang="pt-BR" sz="3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ffffff"/>
                </a:solidFill>
                <a:latin typeface="Comic Sans MS"/>
              </a:rPr>
              <a:t>Aristóteles deixa claro que nem a oligarquia é o regime da minoria, nem, correlativamente, a democracia é o da maioria. Antes a primeira é o domínio dos ricos, e a segunda dos homens livres.</a:t>
            </a:r>
            <a:r>
              <a:rPr b="0" lang="pt-BR" sz="3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ffffff"/>
                </a:solidFill>
                <a:latin typeface="Comic Sans MS"/>
              </a:rPr>
              <a:t>Também a democracia tem diversas formas. O grande problema surge quando as leis não têm força e irrompem da multidão os demagogos. E então o povo se volve em tirania – temos uma descrição real! –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pt-PT" sz="3000" spc="-1" strike="noStrike">
                <a:solidFill>
                  <a:srgbClr val="ffffff"/>
                </a:solidFill>
                <a:latin typeface="Comic Sans MS"/>
              </a:rPr>
              <a:t>os bajuladores são honrados e os homens de bem sujeitados. O mesmo arbítrio reina nos decretos do povo e nas ordens dos tiranos. Trata-se dos mesmos costumes. O que fazem os bajuladores de corte junto a estes, fazem os demagogos junto ao povo.”</a:t>
            </a:r>
            <a:r>
              <a:rPr b="0" lang="pt-BR" sz="3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ffffff"/>
                </a:solidFill>
                <a:latin typeface="Comic Sans MS"/>
              </a:rPr>
              <a:t>E é nesta corrupção da lei, da magistratura, do clima geral, que o Filósofo vê justificação para que tal caos se não chame República, mas democracia, ou então nem isso – como citamos anteriormente.</a:t>
            </a:r>
            <a:br>
              <a:rPr sz="3000"/>
            </a:br>
            <a:br>
              <a:rPr sz="3000"/>
            </a:br>
            <a:r>
              <a:rPr b="0" lang="pt-BR" sz="3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3800" spc="-1" strike="noStrike">
                <a:solidFill>
                  <a:srgbClr val="ffffff"/>
                </a:solidFill>
                <a:latin typeface="Verdana"/>
              </a:rPr>
              <a:t>Os Poderes</a:t>
            </a:r>
            <a:r>
              <a:rPr b="0" lang="pt-BR" sz="3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ffffff"/>
                </a:solidFill>
                <a:latin typeface="Comic Sans MS"/>
              </a:rPr>
              <a:t>O celebrado Montesquieu, tido por pai absoluto da separação dos poderes, não os criou do nada, como pretendeu no exergo latino do seu </a:t>
            </a:r>
            <a:r>
              <a:rPr b="0" i="1" lang="pt-PT" sz="2600" spc="-1" strike="noStrike">
                <a:solidFill>
                  <a:srgbClr val="ffffff"/>
                </a:solidFill>
                <a:latin typeface="Comic Sans MS"/>
              </a:rPr>
              <a:t>De l’Esprit des Lois, </a:t>
            </a:r>
            <a:r>
              <a:rPr b="0" lang="pt-PT" sz="2600" spc="-1" strike="noStrike">
                <a:solidFill>
                  <a:srgbClr val="ffffff"/>
                </a:solidFill>
                <a:latin typeface="Comic Sans MS"/>
              </a:rPr>
              <a:t>citando Ovídio: “</a:t>
            </a:r>
            <a:r>
              <a:rPr b="0" i="1" lang="pt-PT" sz="2600" spc="-1" strike="noStrike">
                <a:solidFill>
                  <a:srgbClr val="ffffff"/>
                </a:solidFill>
                <a:latin typeface="Comic Sans MS"/>
              </a:rPr>
              <a:t>Prolem sine matre creatam</a:t>
            </a:r>
            <a:r>
              <a:rPr b="0" lang="pt-PT" sz="2600" spc="-1" strike="noStrike">
                <a:solidFill>
                  <a:srgbClr val="ffffff"/>
                </a:solidFill>
                <a:latin typeface="Comic Sans MS"/>
              </a:rPr>
              <a:t>“. Além de ter tido John Locke como inspirador mais direto, conhecia evidentemente o clássico Aristóteles. Os poderes, a traços largos, já estão nas </a:t>
            </a:r>
            <a:r>
              <a:rPr b="0" i="1" lang="pt-PT" sz="2600" spc="-1" strike="noStrike">
                <a:solidFill>
                  <a:srgbClr val="ffffff"/>
                </a:solidFill>
                <a:latin typeface="Comic Sans MS"/>
              </a:rPr>
              <a:t>Políticas</a:t>
            </a:r>
            <a:r>
              <a:rPr b="0" lang="pt-PT" sz="2600" spc="-1" strike="noStrike">
                <a:solidFill>
                  <a:srgbClr val="ffffff"/>
                </a:solidFill>
                <a:latin typeface="Comic Sans MS"/>
              </a:rPr>
              <a:t> do Estagirita.</a:t>
            </a:r>
            <a:br>
              <a:rPr sz="2600"/>
            </a:br>
            <a:br>
              <a:rPr sz="2600"/>
            </a:br>
            <a:r>
              <a:rPr b="0" lang="pt-BR" sz="2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ffffff"/>
                </a:solidFill>
                <a:latin typeface="Comic Sans MS"/>
              </a:rPr>
              <a:t>Em todas as constituições vê Aristóteles, com vivo discernimento, precisamente três poderes: um poder deliberativo, que compete a uma Assembléia, e que muito se assemelha ao nosso legislativo; um poder de magistraturas governamentais, a que nós chamaríamos (com menos propriedade, porém) executivo; e um poder judicial.</a:t>
            </a:r>
            <a:br>
              <a:rPr sz="2600"/>
            </a:br>
            <a:br>
              <a:rPr sz="2600"/>
            </a:br>
            <a:r>
              <a:rPr b="0" lang="pt-BR" sz="2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ffffff"/>
                </a:solidFill>
                <a:latin typeface="Comic Sans MS"/>
              </a:rPr>
              <a:t>Há, evidentemente, várias formas de assembléias deliberativas. Importa sobretudo salientar que quando as deliberações sobre todas as matérias pertinentes a este poder são decididas por todos os cidadãos, nos encontramos em democracia. Mesmo assim, existem diversas formas de esta deliberação igualitária se poder exercer.</a:t>
            </a:r>
            <a:r>
              <a:rPr b="0" lang="pt-PT" sz="3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ffffff"/>
                </a:solidFill>
                <a:latin typeface="Comic Sans MS"/>
              </a:rPr>
              <a:t>Mas há a possibilidade de os poderes se encontrarem divididos. Nesse caso, estaremos numa aristocracia ou numa república. Havendo possibilidades mistas.</a:t>
            </a:r>
            <a:r>
              <a:rPr b="0" lang="pt-BR" sz="3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ffffff"/>
                </a:solidFill>
                <a:latin typeface="Comic Sans MS"/>
              </a:rPr>
              <a:t>No domínio do poder executivo, Aristóteles demora-se nos diferentes cargos, não esquecendo propostas interessantes (e ainda atuais nos nossos dias) como a da rotatividade dos cargos de carcereiros, a conveniência da não acumulação de cargos e da não renovação de mandatos, a não ser após longos intervalos, e mesmo assim só em alguns casos.</a:t>
            </a:r>
            <a:r>
              <a:rPr b="0" lang="pt-BR" sz="3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ffffff"/>
                </a:solidFill>
                <a:latin typeface="Comic Sans MS"/>
              </a:rPr>
              <a:t>Embora Aristóteles não esqueça, no domínio do executivo a que chamaríamos administração pública, vários cargos de índole ou implicações jurídicas, é sobretudo descritivo nas formas de que se pode revestir o judiciário.</a:t>
            </a:r>
            <a:r>
              <a:rPr b="0" lang="pt-BR" sz="3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Verdana"/>
              </a:rPr>
              <a:t>Isabela Tivanello  e Jeniffer Zanetti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ffffff"/>
                </a:solidFill>
                <a:latin typeface="Comic Sans MS"/>
              </a:rPr>
              <a:t>Na filosofia aristotélica a política é um desdobramento natural da ética. Ambas, na verdade, compõem a unidade do que Aristóteles chamava de filosofia prática</a:t>
            </a:r>
            <a:r>
              <a:rPr b="0" lang="pt-BR" sz="3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400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ffffff"/>
                </a:solidFill>
                <a:latin typeface="Comic Sans MS"/>
              </a:rPr>
              <a:t>Se a ética está preocupada com a </a:t>
            </a:r>
            <a:r>
              <a:rPr b="0" i="1" lang="pt-PT" sz="3000" spc="-1" strike="noStrike">
                <a:solidFill>
                  <a:srgbClr val="ffffff"/>
                </a:solidFill>
                <a:latin typeface="Comic Sans MS"/>
              </a:rPr>
              <a:t>felicidade</a:t>
            </a:r>
            <a:r>
              <a:rPr b="0" lang="pt-PT" sz="3000" spc="-1" strike="noStrike">
                <a:solidFill>
                  <a:srgbClr val="ffffff"/>
                </a:solidFill>
                <a:latin typeface="Comic Sans MS"/>
              </a:rPr>
              <a:t> individual do </a:t>
            </a:r>
            <a:r>
              <a:rPr b="0" i="1" lang="pt-PT" sz="3000" spc="-1" strike="noStrike">
                <a:solidFill>
                  <a:srgbClr val="ffffff"/>
                </a:solidFill>
                <a:latin typeface="Comic Sans MS"/>
              </a:rPr>
              <a:t>homem,</a:t>
            </a:r>
            <a:r>
              <a:rPr b="0" lang="pt-PT" sz="3000" spc="-1" strike="noStrike">
                <a:solidFill>
                  <a:srgbClr val="ffffff"/>
                </a:solidFill>
                <a:latin typeface="Comic Sans MS"/>
              </a:rPr>
              <a:t> a </a:t>
            </a:r>
            <a:r>
              <a:rPr b="0" i="1" lang="pt-PT" sz="3000" spc="-1" strike="noStrike">
                <a:solidFill>
                  <a:srgbClr val="ffffff"/>
                </a:solidFill>
                <a:latin typeface="Comic Sans MS"/>
              </a:rPr>
              <a:t>política</a:t>
            </a:r>
            <a:r>
              <a:rPr b="0" lang="pt-PT" sz="3000" spc="-1" strike="noStrike">
                <a:solidFill>
                  <a:srgbClr val="ffffff"/>
                </a:solidFill>
                <a:latin typeface="Comic Sans MS"/>
              </a:rPr>
              <a:t> se preocupa com a felicidade coletiva da </a:t>
            </a:r>
            <a:r>
              <a:rPr b="0" i="1" lang="pt-PT" sz="3000" spc="-1" strike="noStrike">
                <a:solidFill>
                  <a:srgbClr val="ffffff"/>
                </a:solidFill>
                <a:latin typeface="Comic Sans MS"/>
              </a:rPr>
              <a:t>pólis</a:t>
            </a:r>
            <a:r>
              <a:rPr b="0" lang="pt-PT" sz="3000" spc="-1" strike="noStrike">
                <a:solidFill>
                  <a:srgbClr val="ffffff"/>
                </a:solidFill>
                <a:latin typeface="Comic Sans MS"/>
              </a:rPr>
              <a:t>. Desse modo, é tarefa da </a:t>
            </a:r>
            <a:r>
              <a:rPr b="0" i="1" lang="pt-PT" sz="3000" spc="-1" strike="noStrike">
                <a:solidFill>
                  <a:srgbClr val="ffffff"/>
                </a:solidFill>
                <a:latin typeface="Comic Sans MS"/>
              </a:rPr>
              <a:t>política</a:t>
            </a:r>
            <a:r>
              <a:rPr b="0" lang="pt-PT" sz="3000" spc="-1" strike="noStrike">
                <a:solidFill>
                  <a:srgbClr val="ffffff"/>
                </a:solidFill>
                <a:latin typeface="Comic Sans MS"/>
              </a:rPr>
              <a:t> investigar e descobrir quais são as formas de </a:t>
            </a:r>
            <a:r>
              <a:rPr b="0" i="1" lang="pt-PT" sz="3000" spc="-1" strike="noStrike">
                <a:solidFill>
                  <a:srgbClr val="ffffff"/>
                </a:solidFill>
                <a:latin typeface="Comic Sans MS"/>
              </a:rPr>
              <a:t>governo</a:t>
            </a:r>
            <a:r>
              <a:rPr b="0" lang="pt-PT" sz="3000" spc="-1" strike="noStrike">
                <a:solidFill>
                  <a:srgbClr val="ffffff"/>
                </a:solidFill>
                <a:latin typeface="Comic Sans MS"/>
              </a:rPr>
              <a:t> e as </a:t>
            </a:r>
            <a:r>
              <a:rPr b="0" i="1" lang="pt-PT" sz="3000" spc="-1" strike="noStrike">
                <a:solidFill>
                  <a:srgbClr val="ffffff"/>
                </a:solidFill>
                <a:latin typeface="Comic Sans MS"/>
              </a:rPr>
              <a:t>instituições </a:t>
            </a:r>
            <a:r>
              <a:rPr b="0" lang="pt-PT" sz="3000" spc="-1" strike="noStrike">
                <a:solidFill>
                  <a:srgbClr val="ffffff"/>
                </a:solidFill>
                <a:latin typeface="Comic Sans MS"/>
              </a:rPr>
              <a:t>capazes de assegurar a felicidade coletiva. Trata-se, portanto, de investigar a </a:t>
            </a:r>
            <a:r>
              <a:rPr b="0" i="1" lang="pt-PT" sz="3000" spc="-1" strike="noStrike">
                <a:solidFill>
                  <a:srgbClr val="ffffff"/>
                </a:solidFill>
                <a:latin typeface="Comic Sans MS"/>
              </a:rPr>
              <a:t>constituição</a:t>
            </a:r>
            <a:r>
              <a:rPr b="0" lang="pt-PT" sz="3000" spc="-1" strike="noStrike">
                <a:solidFill>
                  <a:srgbClr val="ffffff"/>
                </a:solidFill>
                <a:latin typeface="Comic Sans MS"/>
              </a:rPr>
              <a:t> do </a:t>
            </a:r>
            <a:r>
              <a:rPr b="0" i="1" lang="pt-PT" sz="3000" spc="-1" strike="noStrike">
                <a:solidFill>
                  <a:srgbClr val="ffffff"/>
                </a:solidFill>
                <a:latin typeface="Comic Sans MS"/>
              </a:rPr>
              <a:t>estado</a:t>
            </a:r>
            <a:r>
              <a:rPr b="0" lang="pt-PT" sz="3000" spc="-1" strike="noStrike">
                <a:solidFill>
                  <a:srgbClr val="ffffff"/>
                </a:solidFill>
                <a:latin typeface="Comic Sans MS"/>
              </a:rPr>
              <a:t>.</a:t>
            </a:r>
            <a:br>
              <a:rPr sz="3000"/>
            </a:br>
            <a:r>
              <a:rPr b="0" lang="pt-BR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ffffff"/>
                </a:solidFill>
                <a:latin typeface="Comic Sans MS"/>
              </a:rPr>
              <a:t>Acredita-se que as reflexões aristotélicas sobre a política originam-se da época em que ele era preceptor de Alexandre, o Grande.</a:t>
            </a:r>
            <a:br>
              <a:rPr sz="3000"/>
            </a:br>
            <a:r>
              <a:rPr b="0" lang="pt-BR" sz="3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ffffff"/>
                </a:solidFill>
                <a:latin typeface="Comic Sans MS"/>
              </a:rPr>
              <a:t>As Formas de Governo e os Poderes</a:t>
            </a:r>
            <a:br>
              <a:rPr sz="3000"/>
            </a:br>
            <a:r>
              <a:rPr b="0" i="1" lang="pt-PT" sz="3000" spc="-1" strike="noStrike">
                <a:solidFill>
                  <a:srgbClr val="ffffff"/>
                </a:solidFill>
                <a:latin typeface="Comic Sans MS"/>
              </a:rPr>
              <a:t>As Formas de Governo</a:t>
            </a:r>
            <a:br>
              <a:rPr sz="3000"/>
            </a:br>
            <a:r>
              <a:rPr b="0" lang="pt-PT" sz="3000" spc="-1" strike="noStrike">
                <a:solidFill>
                  <a:srgbClr val="ffffff"/>
                </a:solidFill>
                <a:latin typeface="Comic Sans MS"/>
              </a:rPr>
              <a:t>Aristóteles utiliza dois critérios combinados para determinar as formas de constituição: o número de governantes e a sua inclinação para a Justiça</a:t>
            </a:r>
            <a:r>
              <a:rPr b="0" lang="pt-PT" sz="30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lang="pt-BR" sz="3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9280" y="22046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ffffff"/>
                </a:solidFill>
                <a:latin typeface="Comic Sans MS"/>
              </a:rPr>
              <a:t>Considerando-se governo o supremo poder numa sociedade política, a questão das constituições reconduz-se à das formas de governo. O critério da justiça das constituições reforça esta ideia, na medida em que a avaliação da justiça, numa constituição, se aquilata pela forma concreta pela qual, seja um, sejam vários, sejam todos (aqui entra o critério do número) os governantes se inclinam a prezar mais a felicidade geral que a própria.</a:t>
            </a:r>
            <a:br>
              <a:rPr sz="2500"/>
            </a:br>
            <a:br>
              <a:rPr sz="1900"/>
            </a:br>
            <a:r>
              <a:rPr b="0" lang="pt-BR" sz="19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ffffff"/>
                </a:solidFill>
                <a:latin typeface="Comic Sans MS"/>
              </a:rPr>
              <a:t>Há assim (pela variação do número de governantes) várias modalidades de constituições justas, e cada uma delas pode engendrar, em certas condições de corrupção, a respectiva forma injusta.</a:t>
            </a:r>
            <a:r>
              <a:rPr b="0" lang="pt-BR" sz="3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ffffff"/>
                </a:solidFill>
                <a:latin typeface="Comic Sans MS"/>
              </a:rPr>
              <a:t>Nestes termos, na monarquia um príncipe honesto, e único, vela pelo interesse comum; na aristocracia o encargo da felicidade . pública é cometido a um grupo, escolhido de entre os mais honestos; e na </a:t>
            </a:r>
            <a:r>
              <a:rPr b="0" i="1" lang="pt-PT" sz="3000" spc="-1" strike="noStrike">
                <a:solidFill>
                  <a:srgbClr val="ffffff"/>
                </a:solidFill>
                <a:latin typeface="Comic Sans MS"/>
              </a:rPr>
              <a:t>politeia</a:t>
            </a:r>
            <a:r>
              <a:rPr b="0" lang="pt-PT" sz="3000" spc="-1" strike="noStrike">
                <a:solidFill>
                  <a:srgbClr val="ffffff"/>
                </a:solidFill>
                <a:latin typeface="Comic Sans MS"/>
              </a:rPr>
              <a:t> (cuja tradução, como sabemos, oscila entre república, democracia e até estado constitucional) é a multidão que governa para a utilidade comum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7T16:01:49Z</dcterms:created>
  <dc:creator>user</dc:creator>
  <dc:description/>
  <dc:language>en-US</dc:language>
  <cp:lastModifiedBy>Escola</cp:lastModifiedBy>
  <dcterms:modified xsi:type="dcterms:W3CDTF">2009-09-09T12:28:51Z</dcterms:modified>
  <cp:revision>4</cp:revision>
  <dc:subject/>
  <dc:title>A Política de Aristóteles</dc:title>
</cp:coreProperties>
</file>